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5C06-8BF1-4468-A26A-70E329887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42C3-D869-48B9-8C60-A4E9CD352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4EAF-FD13-4AE1-8A20-4719510A5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84B3-F7F3-4662-8F41-CE9C1EABE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C8E10-2558-479B-AA6C-A9BCB5DA4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734B7-E9CF-47EE-9A79-3E186382E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827D2-90EB-422F-ACBA-7583D6DB0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C2577-04B5-4488-ADA3-F4279CA54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B4111-DB7A-4FAD-B99A-386966F9C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C73AC-5465-484E-9D51-764F66023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72D50-3F33-4C82-8D15-52DB45F2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819E-076A-4631-B566-E63DAF351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BD350-E330-4EE5-8831-6497CECF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8D22B-8F03-4C92-A3BF-EF561E7F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3FFE7-F06C-437A-BC5A-BD15B2903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7CD6E-FB8B-4D5C-9E5B-5335E856B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5C76E-82AA-4617-B73F-F98138F8F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C1DC-5FED-4F4C-8C3E-31172AEFD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16C9-96D7-4043-A987-598ABD9B1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1C9D-8308-405F-9270-2576E153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5371-8B9B-4882-9249-34F258D8C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08C6-AB6A-43F7-B63B-65260721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8474-DD45-4AF8-96CC-829E2561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8779-DEA1-49C6-9AD3-4084028C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85063-DFFA-4614-BA7B-86296D56AA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481800" y="6172200"/>
            <a:ext cx="250992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65ED5-4C5D-49A5-BA23-6959A40222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481800" y="6172200"/>
            <a:ext cx="2509920" cy="6094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erican Typewriter Light"/>
              </a:rPr>
              <a:t>Literature Curation in GM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2133720"/>
            <a:ext cx="74674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erature into computers/storabl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ators (P.I.s, students, occasional bioinformati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atively time consu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pers, few people, £/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tise of the cu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erican Typewriter Light"/>
              </a:rPr>
              <a:t>Literature Curation in GM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2133720"/>
            <a:ext cx="74674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ing by keyword/gene/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ing/clus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ed curation (SVM?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371600" y="3733920"/>
            <a:ext cx="194616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erican Typewriter Light"/>
              </a:rPr>
              <a:t>Literature Curation in GM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1600200"/>
            <a:ext cx="38862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pres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do's </a:t>
            </a:r>
            <a:r>
              <a:rPr b="1" lang="en-US" sz="2800" spc="-1" strike="noStrike">
                <a:solidFill>
                  <a:srgbClr val="000000"/>
                </a:solidFill>
                <a:latin typeface="American Typewriter Light"/>
              </a:rPr>
              <a:t>pu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bleE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p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hway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724280" y="1676520"/>
            <a:ext cx="3886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e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erican Typewriter Light"/>
              </a:rPr>
              <a:t>Literature Curation in GM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4952880"/>
            <a:ext cx="1673280" cy="1752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914400" y="1752480"/>
            <a:ext cx="71629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/community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CA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munity Assessment of Community Annotation with Ont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9T23:02:47Z</dcterms:created>
  <dc:creator>Daniel Renfro</dc:creator>
  <dc:description/>
  <dc:language>en-US</dc:language>
  <cp:lastModifiedBy>GMOD / NESCent</cp:lastModifiedBy>
  <cp:lastPrinted>2010-09-24T17:48:19Z</cp:lastPrinted>
  <dcterms:modified xsi:type="dcterms:W3CDTF">2010-09-24T17:48:34Z</dcterms:modified>
  <cp:revision>10</cp:revision>
  <dc:subject/>
  <dc:title>Publications &amp; GMOD</dc:title>
</cp:coreProperties>
</file>